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4.gif" ContentType="image/gif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1475-05EA-4446-905B-CC41AD46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E8D1-8ADD-4901-9A9C-58ADA86E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0AFB-DB4D-4C19-8E9D-D50C2796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7ABC-D11B-458D-B5FD-5F76E7F6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289-397D-4030-B2B2-CCADDFFB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8FA9-F495-4299-A4D3-A7202DB6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ED68-172C-482E-BBF9-9C4D703B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63C7-2ACC-4B83-9B6F-97B850DD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03C6-278E-49C9-8BFB-32485EB3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CB67-4D8B-4EA9-BDB0-334F1DE4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7C0C-4EFE-4139-ACF5-A4BACF9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367A-2DE7-447C-B24F-0775F0B5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85B3-8A30-4DAD-929E-5979CDF3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71F9-87B3-4059-886B-D5576C0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ACFC-39DF-4840-9929-2076A1D4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9210-9897-4BAB-BE14-DB4A72BD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E542-F4EC-40AF-81F1-AEA852B5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F5C6-C651-496E-BA43-9A4C33BD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9667-F84C-4594-AEF2-92B89BC6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6DC8-7278-403D-A9D5-B67D6E90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19B2-C823-4B99-B1E6-388FF7D5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28AD-B45B-4ADF-8CFE-BAA8510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4090-AC8A-446D-ACDE-44D33E08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DA0E-76EB-4F6B-A132-B2A92645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2195-9D01-453A-904B-0EE8CE6859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00DB-5362-4E96-8DD6-96E543823F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6000" y="2637000"/>
            <a:ext cx="583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Зачем нужны дроби?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Garamond"/>
              </a:rPr>
              <a:t>Авторы и участники проекта:</a:t>
            </a:r>
            <a:r>
              <a:rPr b="0" lang="ru-RU" sz="3200" spc="-1" strike="noStrike">
                <a:solidFill>
                  <a:srgbClr val="89898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тори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следовател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260280"/>
            <a:ext cx="595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ff"/>
                </a:solidFill>
                <a:latin typeface="Garamond"/>
              </a:rPr>
              <a:t>Как возникли                   дроби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7" descr="school06-06"/>
          <p:cNvPicPr/>
          <p:nvPr/>
        </p:nvPicPr>
        <p:blipFill>
          <a:blip r:embed="rId1"/>
          <a:stretch/>
        </p:blipFill>
        <p:spPr>
          <a:xfrm rot="16642200">
            <a:off x="770760" y="1289520"/>
            <a:ext cx="2274840" cy="38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school10-08"/>
          <p:cNvPicPr/>
          <p:nvPr/>
        </p:nvPicPr>
        <p:blipFill>
          <a:blip r:embed="rId2"/>
          <a:stretch/>
        </p:blipFill>
        <p:spPr>
          <a:xfrm>
            <a:off x="6227640" y="620640"/>
            <a:ext cx="216072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Garamond"/>
              </a:rPr>
              <a:t>Результат анкетир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В опросе участвовало 52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«Да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48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«Нет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4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school05-14"/>
          <p:cNvPicPr/>
          <p:nvPr/>
        </p:nvPicPr>
        <p:blipFill>
          <a:blip r:embed="rId1"/>
          <a:stretch/>
        </p:blipFill>
        <p:spPr>
          <a:xfrm>
            <a:off x="2411280" y="4724280"/>
            <a:ext cx="438156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Garamond"/>
              </a:rPr>
              <a:t>Задачи, решаемые родителями в своей профессиональной деятельност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дитель – дальнобойщик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Я отправился в рейс из пункта А в пункт В, расстояние между которыми 369 км. В 13 ч 30 мин я проехал девятую часть пути. С какой скоростью мне нужно ехать, чтобы прибыть в фирму до её закрытия (закрывается в 18 ч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6" descr="MC900295709[1]"/>
          <p:cNvPicPr/>
          <p:nvPr/>
        </p:nvPicPr>
        <p:blipFill>
          <a:blip r:embed="rId1"/>
          <a:stretch/>
        </p:blipFill>
        <p:spPr>
          <a:xfrm>
            <a:off x="6670800" y="1052640"/>
            <a:ext cx="2222280" cy="1446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MM900236274[1]"/>
          <p:cNvPicPr/>
          <p:nvPr/>
        </p:nvPicPr>
        <p:blipFill>
          <a:blip r:embed="rId2"/>
          <a:stretch/>
        </p:blipFill>
        <p:spPr>
          <a:xfrm>
            <a:off x="6443640" y="5346720"/>
            <a:ext cx="2376360" cy="151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900282166[1]"/>
          <p:cNvPicPr/>
          <p:nvPr/>
        </p:nvPicPr>
        <p:blipFill>
          <a:blip r:embed="rId3"/>
          <a:stretch/>
        </p:blipFill>
        <p:spPr>
          <a:xfrm>
            <a:off x="0" y="1052640"/>
            <a:ext cx="1692360" cy="138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вар:</a:t>
            </a:r>
            <a:br>
              <a:rPr sz="3600"/>
            </a:b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Для приготовления борща из 500 грамм мяса необходимо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2133720"/>
          <a:ext cx="5008680" cy="4236840"/>
        </p:xfrm>
        <a:graphic>
          <a:graphicData uri="http://schemas.openxmlformats.org/drawingml/2006/table">
            <a:tbl>
              <a:tblPr/>
              <a:tblGrid>
                <a:gridCol w="2271600"/>
                <a:gridCol w="2737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0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53" descr="ratatouille10"/>
          <p:cNvPicPr/>
          <p:nvPr/>
        </p:nvPicPr>
        <p:blipFill>
          <a:blip r:embed="rId1"/>
          <a:stretch/>
        </p:blipFill>
        <p:spPr>
          <a:xfrm>
            <a:off x="5580000" y="2205000"/>
            <a:ext cx="33177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Рассчитайте расход продуктов на приготовление борща из 3 кг мяс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844640"/>
          <a:ext cx="5000400" cy="481824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</a:tblGrid>
              <a:tr h="552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4" name="Picture 50" descr="school10-03"/>
          <p:cNvPicPr/>
          <p:nvPr/>
        </p:nvPicPr>
        <p:blipFill>
          <a:blip r:embed="rId1"/>
          <a:stretch/>
        </p:blipFill>
        <p:spPr>
          <a:xfrm>
            <a:off x="5651640" y="1773360"/>
            <a:ext cx="32572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886e0"/>
                </a:solidFill>
                <a:latin typeface="Garamond"/>
              </a:rPr>
              <a:t>Электрик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Длина провода 12 м. На ремонт стальной лампы израсходовал ¼ этого куска. Хватит ли мне оставшегося провода, чтобы заменить проводку в комнате размером 3х4 (замену нужно произвести по двум смежным стенам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6" descr="MC900240685[1]"/>
          <p:cNvPicPr/>
          <p:nvPr/>
        </p:nvPicPr>
        <p:blipFill>
          <a:blip r:embed="rId1"/>
          <a:stretch/>
        </p:blipFill>
        <p:spPr>
          <a:xfrm>
            <a:off x="6516720" y="4000680"/>
            <a:ext cx="244800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Garamond"/>
              </a:rPr>
              <a:t>Вывод!!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Людям разных профессий необходимо уметь решать задачи на дроби, знать правила сложения и вычитания, умножения и деления дроб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school08-02"/>
          <p:cNvPicPr/>
          <p:nvPr/>
        </p:nvPicPr>
        <p:blipFill>
          <a:blip r:embed="rId1"/>
          <a:stretch/>
        </p:blipFill>
        <p:spPr>
          <a:xfrm>
            <a:off x="5580000" y="4869000"/>
            <a:ext cx="33130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00cc"/>
                </a:solidFill>
                <a:latin typeface="Garamond"/>
              </a:rPr>
              <a:t>Спасибо за внимание!!!</a:t>
            </a:r>
            <a:br>
              <a:rPr sz="8800"/>
            </a:b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6" descr="school02-28"/>
          <p:cNvPicPr/>
          <p:nvPr/>
        </p:nvPicPr>
        <p:blipFill>
          <a:blip r:embed="rId1"/>
          <a:stretch/>
        </p:blipFill>
        <p:spPr>
          <a:xfrm>
            <a:off x="2843280" y="3884760"/>
            <a:ext cx="331308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93333"/>
                </a:solidFill>
                <a:latin typeface="Garamond"/>
              </a:rPr>
              <a:t>«Историки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ПРЕДСТАВЛЯЮТ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!!!!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ff"/>
                </a:solidFill>
                <a:latin typeface="Gill Sans Ultra Bold"/>
              </a:rPr>
              <a:t>«Как возникли дроби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4" descr="school10-04"/>
          <p:cNvPicPr/>
          <p:nvPr/>
        </p:nvPicPr>
        <p:blipFill>
          <a:blip r:embed="rId1"/>
          <a:stretch/>
        </p:blipFill>
        <p:spPr>
          <a:xfrm>
            <a:off x="6516720" y="4076640"/>
            <a:ext cx="237492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 каких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источниках впервые упоминается о дробя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cc00ff"/>
                </a:solidFill>
                <a:latin typeface="Arial Black"/>
              </a:rPr>
              <a:t>Египетский математический кожаный сви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Московский математический папирус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длина составляет 5,40 м, а его ширина от 4 до 7 см. (Он был составлен около 1850 до н. 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Деревянная табличка Ахм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aramond"/>
              </a:rPr>
              <a:t>папирус Ринд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свиток длиной 5,25 м. и шириной 33 см. (ок. 1650 до н. э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6" descr="school05-05"/>
          <p:cNvPicPr/>
          <p:nvPr/>
        </p:nvPicPr>
        <p:blipFill>
          <a:blip r:embed="rId1"/>
          <a:stretch/>
        </p:blipFill>
        <p:spPr>
          <a:xfrm>
            <a:off x="6659640" y="5373720"/>
            <a:ext cx="2295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роби!</a:t>
            </a:r>
            <a:r>
              <a:rPr b="1" lang="ru-RU" sz="4400" spc="-1" strike="noStrike">
                <a:solidFill>
                  <a:srgbClr val="cc00ff"/>
                </a:solidFill>
                <a:latin typeface="Garamond"/>
              </a:rPr>
              <a:t> Какие они в Древнем Вавилон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61927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Шестидесятеричны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и обозначались: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пример, время 3 ч 17 мин. 28 с можно записать и так: 3,17'28" ч (читается 3 целых, 17 шестидесятых 28 три тысячи шестисотых часа)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school02-04"/>
          <p:cNvPicPr/>
          <p:nvPr/>
        </p:nvPicPr>
        <p:blipFill>
          <a:blip r:embed="rId1"/>
          <a:stretch/>
        </p:blipFill>
        <p:spPr>
          <a:xfrm>
            <a:off x="179280" y="2852640"/>
            <a:ext cx="2521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Отношение к дробям в Древней Гре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читали, что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дроби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можно использовать только в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логистике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. Впервые встречается общее понятие дроби вида </a:t>
            </a:r>
            <a:r>
              <a:rPr b="1" i="1" lang="ru-RU" sz="3600" spc="-1" strike="noStrike">
                <a:solidFill>
                  <a:srgbClr val="00ff00"/>
                </a:solidFill>
                <a:latin typeface="Garamond"/>
              </a:rPr>
              <a:t>m/n.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school10-04"/>
          <p:cNvPicPr/>
          <p:nvPr/>
        </p:nvPicPr>
        <p:blipFill>
          <a:blip r:embed="rId1"/>
          <a:stretch/>
        </p:blipFill>
        <p:spPr>
          <a:xfrm>
            <a:off x="6012000" y="1844640"/>
            <a:ext cx="313200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Rockwell Extra Bold"/>
              </a:rPr>
              <a:t>Где стали записывать дробь с помощью числителя и знаменател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98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Garamond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, и не писали дробной черты. А записывать дроби в точности, как сейчас, стали ара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school06-17"/>
          <p:cNvPicPr/>
          <p:nvPr/>
        </p:nvPicPr>
        <p:blipFill>
          <a:blip r:embed="rId1"/>
          <a:stretch/>
        </p:blipFill>
        <p:spPr>
          <a:xfrm>
            <a:off x="6588000" y="2924280"/>
            <a:ext cx="23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ff"/>
                </a:solidFill>
                <a:latin typeface="Garamond"/>
              </a:rPr>
              <a:t>«Исследователи»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75708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ff00"/>
                </a:solidFill>
                <a:latin typeface="Garamond"/>
              </a:rPr>
              <a:t>Профессия и дроби!!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school10-06"/>
          <p:cNvPicPr/>
          <p:nvPr/>
        </p:nvPicPr>
        <p:blipFill>
          <a:blip r:embed="rId1"/>
          <a:stretch/>
        </p:blipFill>
        <p:spPr>
          <a:xfrm>
            <a:off x="6696000" y="3716280"/>
            <a:ext cx="244800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chool08-01"/>
          <p:cNvPicPr/>
          <p:nvPr/>
        </p:nvPicPr>
        <p:blipFill>
          <a:blip r:embed="rId2"/>
          <a:stretch/>
        </p:blipFill>
        <p:spPr>
          <a:xfrm>
            <a:off x="179280" y="465300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ff"/>
                </a:solidFill>
                <a:latin typeface="Garamond"/>
              </a:rPr>
              <a:t>Цели исследования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Доказать, что людям разной профессии нужны дроб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school10-01"/>
          <p:cNvPicPr/>
          <p:nvPr/>
        </p:nvPicPr>
        <p:blipFill>
          <a:blip r:embed="rId1"/>
          <a:stretch/>
        </p:blipFill>
        <p:spPr>
          <a:xfrm>
            <a:off x="900000" y="3789360"/>
            <a:ext cx="3810240" cy="288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chool11-15"/>
          <p:cNvPicPr/>
          <p:nvPr/>
        </p:nvPicPr>
        <p:blipFill>
          <a:blip r:embed="rId2"/>
          <a:stretch/>
        </p:blipFill>
        <p:spPr>
          <a:xfrm>
            <a:off x="4716360" y="3357720"/>
            <a:ext cx="35276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ff"/>
                </a:solidFill>
                <a:uFillTx/>
                <a:latin typeface="Garamond"/>
              </a:rPr>
              <a:t>Результаты исслед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155736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В ходе исследований было проведено анкетирование родителей всего класса, с целью выяснения использования дробей в его профес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school12-05"/>
          <p:cNvPicPr/>
          <p:nvPr/>
        </p:nvPicPr>
        <p:blipFill>
          <a:blip r:embed="rId1"/>
          <a:stretch/>
        </p:blipFill>
        <p:spPr>
          <a:xfrm>
            <a:off x="5435640" y="1844640"/>
            <a:ext cx="3708360" cy="44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7:13Z</dcterms:created>
  <dc:creator>Admin</dc:creator>
  <dc:description/>
  <dc:language>en-US</dc:language>
  <cp:lastModifiedBy>Admin</cp:lastModifiedBy>
  <dcterms:modified xsi:type="dcterms:W3CDTF">2010-05-28T08:56:26Z</dcterms:modified>
  <cp:revision>11</cp:revision>
  <dc:subject/>
  <dc:title>Зачем нужны дроби?</dc:title>
</cp:coreProperties>
</file>